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0.pct" ContentType="image/x-pict"/>
  <Override PartName="/ppt/media/image5.pct" ContentType="image/x-pict"/>
  <Override PartName="/ppt/media/image4.pct" ContentType="image/x-pict"/>
  <Override PartName="/ppt/media/image24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C6E5-620D-4B38-B35F-F201710EA6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DD40-B27D-445F-9D94-F906C97F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 basics -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9E2-C993-4539-8598-62331CB0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A4F-7D40-4E27-A035-F48E2CC9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0A2A7-E9CE-40E3-B2AE-98CE03B3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27CAD1-FE80-46A3-BC1C-3773429C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967D7-5516-4D90-938B-E2B490FE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20B98-5CEE-44CE-BEAD-3295934C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855D2-84CF-4371-BC74-FF2C4B3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F0F9-C5A5-42E7-AF2C-6D5F357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E72553-D53E-4CC8-A0A4-F4B98B42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35904-E765-4F68-9ECD-D630F52B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184D2-1474-4A15-868B-25DEACE36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0C3E5-FD33-4E9E-BD3F-736DE4C7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2F61-E96A-45AE-A85B-BFA14204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0A063-12A6-4202-BDA3-9D632F9A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4B3B5-BBAD-4BDA-94FA-ABFABCE2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637F2-9A71-44F8-A900-2D7D89B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AFFE9-7B2C-4DA8-A4A0-20176F3F6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D406C-93C8-47A6-9391-005373F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2E761-8899-489F-B5C1-20C5417F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5D039-B350-4878-AC1E-40E216B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58924-F399-4622-8288-FBBC108C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66AC1-375B-4A63-ABBC-351F9D1F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2782-3BB1-41CF-A98B-200C598C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022F-81C4-4B8B-9262-9CAB2877E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696947-7693-464B-A1AF-9B818D3C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25CE9-40CE-4E64-8B49-CB88F760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4B72C-2042-4B36-9480-794E71BB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9155C-E729-4E7B-928A-BE95F293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90172-00BC-47F8-9850-2B641451D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A2B7E-372D-447B-8523-EE15D4FE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B774F-2ACC-4776-A309-A18302AD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64B9B-F21A-40D4-9BD1-3F94A587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C70F4-0E6C-48F1-82EC-2938EA0D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A762D-4C36-4D03-B126-8EB0389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EEDD-9FBB-4288-8339-9C5F65E2A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C38ED-59D4-4F0B-98FC-C61FBB4E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0A253D-B9A4-4363-BAE7-883D1A2F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F76CB-77C7-463D-871E-073734FF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F838-D5DA-422E-8E15-461087EE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89E81-3A17-4584-87EF-BA8C527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084A56-B62A-462A-9296-C49CE7F2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99654-EFA6-4612-AD46-8F10604E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794AE-76F6-45AE-B73C-ED11D64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9804A-EC17-4176-91CE-3C2F3B58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F27AC-7A90-47DC-A5A2-80157945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AEC1-80CA-446C-9618-8CB3FD8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BE42E-6CE4-4AF0-AC98-0CBE1F6B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85A04-A541-4DE6-9B7B-8653396B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FDCE8-DDB3-48C9-90B1-3D8EB15F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7BAEB-379C-47C9-AFE4-ACF32C11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BBE5B-77A4-43C4-B272-F37B5FB2C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B9D52-55CC-4AFD-8AD5-9CAA9A6B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597-BBEF-4445-BDBC-641787CC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DF2E-F0A0-429B-BE71-8E9B3202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69D7-E81B-4711-932E-DB2D8320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503D-5E49-44D2-8697-561DCFCA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1823-161C-4BF1-B6DE-2BF81188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3263-1C7D-4961-A4C6-1BE5E058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A82-3AAD-4049-A26C-3108EED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25C4-0700-4FA2-9CAF-B0DE9D83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F5A4-AD9E-40BF-8185-BB50AA19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9ED0-98EA-49C9-9C46-1C2CD6A6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E8454-4212-4EFF-92F8-2B181EAE5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94AEE-0FB0-4FB3-A2B8-82407929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58AF-E046-41AB-8B31-9494B6FF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1A7BA-B1E6-46C9-A12B-7BA07E92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624A-AAB3-41FC-BE66-470E501C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BC9-AB20-4328-B60A-F5D36920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528CB-7BD7-446B-ADA6-7FACCBA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98351-3532-4529-9FFA-D3B1B700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E116E-370F-45BE-B1B9-D3E8137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48478-46FD-4609-8C7A-82B0996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DA9D-E5D3-4E91-9715-35942249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1D088-FB0E-41F2-A623-21995E81D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EA901-2714-4461-A45F-192D6FD2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45540-BF72-476D-A347-DB95725B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19D96-48C3-435D-8F1A-905D53AE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E4014-B6A1-4674-92F7-6C074BB2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FBFC-61CC-4E04-9A82-D0AB8B08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8EE5-90DD-4A89-AB40-02C06D1F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1FB62-AC52-4638-87B5-29168139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A147C-599F-4DFA-B51A-69B3A4EA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9B30-78B0-4E63-A1CD-C86FA4D4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4D302-35F6-415F-A053-2BBA572D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63DB-3CAD-43FF-9B1D-0906F4A3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59C0F-7D63-408F-B122-4BC9F933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00149-4CB2-4CE0-82FF-25E0240B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B81A8-5E53-4292-A512-3C09279FC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5F66C-D341-4413-B43C-377E9796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4FB-64BE-4F1D-97F0-76E02DEC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0022-6F27-418F-9F6E-789E79FD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B7749-E84A-4988-90A7-479350FE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F837D-968A-4457-BB8E-61462BC9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3DB92-5A62-455C-AD8D-16136DD0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1EE7D-3EE4-4649-BBDA-D826A495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6AD8B-4937-4761-8F49-C9D976BC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0BC0-57EF-465C-AA41-86A72558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12389-6F5C-4AED-98B2-429B47F6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C6061-D9F5-450A-8A2C-5BB602DF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F5A7C-CE12-4E96-A103-677B7229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2946-7D6F-43A3-89D0-2F6EDFAF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DE81-6130-4AAC-A67C-8142A538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B8705-49D6-4E4B-96B5-EC5B3A090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AB11-1014-4E6C-848E-1D02F9A1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4C4C-CBAC-473A-923E-DF834C1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D7A9-EF72-4EC1-895E-A7C9813F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21D2-E438-4924-9CD1-920CBAF1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11939-8418-4A18-9081-FFD1811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B4E54-3101-4DB0-8AE4-30C44AA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8B6148-D182-4FC9-AE05-4129EC8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5C0E2-0A57-47BA-BBF0-2DA20C92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9E79-7313-4EE4-828D-15C51EC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C5669-2CCF-4FBD-A973-9A343C40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79E03-6359-42A3-B56F-788CCBE36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502DB-62D8-4499-B7D7-C940CC638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16589-E08F-4F4D-BBE4-C4ACC444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B3DAF-00CB-4B70-8F74-043395BB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9071-C132-43AB-97EB-2B585FE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2843E-2FB6-4448-A899-F9DE5A0F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9C944D-6E29-482C-9ED9-F5D133A6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18760-F35F-47FF-8459-FA26FDB2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83109-366D-405A-9570-A03FA942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782-9BA5-4C41-A243-B0EA8830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227E0-78F6-47E0-8BD2-BB46F4E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C36C9-AF4C-432B-ADA1-2429B699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6179-EAC9-46D6-BDE7-36A1BE10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9B6320-701D-4967-ACA6-429835203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10E9A-7AF6-4568-BDAD-311ED5EC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77A19-49AE-4100-8686-DE5C6D1E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29EE9-D708-4C1F-B816-432911D5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03F4E-DEA2-43B9-A6B7-08780050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59A55-E3C6-4378-99E1-06045C86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9A931-6218-498B-88F4-EACF9FB04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98AC-9E51-4FF7-9EFE-59C8ED59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1E139-C847-46A5-9B13-16CD639F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FA9C3-E317-4E37-9A44-D2D994E3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01A7-5E92-4F04-875F-A1727191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E5ABB1-E3B8-47EC-A008-44FC4561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74EF-8EE7-450F-87A5-86EFBCBE6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22367-8D78-4FE3-A708-48CAA6110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E4446-6353-4AAC-BC10-48FB93F49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A936A-76DC-46BE-8F3B-B7E5E3CC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A56C5E-D75A-4B86-AE3B-2CAD39DD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B134F-E831-43F6-B8E6-A943FB61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A81-8305-497A-B1B7-249066F345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85CE-4D34-467E-A589-CC5823104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31AF-5555-4930-A1D7-7DC2553DA84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2181-8CA0-4759-80FB-C34F20950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4B6C-3C21-47B0-85B0-91454E2104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BA81-ABC8-4E67-911E-6958D57BE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F3D3-3165-4F2A-ADD4-5CC824ED29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667E-5411-4E69-9977-5016EF15A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7A7F-A0CD-4886-8E4F-583DF10AB2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90A-B8FB-43AC-95F1-DAF74D748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FFA5-0C3B-4D26-B6FD-2FE9203745B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567C-16C4-45FF-95A9-63AEFAC60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BCF4-343E-46DD-9CC4-0C34599F1E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AF1-E3BA-41DB-B118-81FD3534D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3E5-D305-4A70-9834-0D5370183F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768C-AEB2-40E9-8797-DE7A9361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D437-F975-442F-B0FE-D942598562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55FE-8249-4286-9F3D-E6C500C34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86A36-D1ED-425F-9640-7EB5B8596B8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9011-1460-48BE-88C1-017DC0A33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8CC4-A8A1-480E-8D1D-5F98D5B3525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6CD8-D039-4D6B-AFE9-1D92DF20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08B-0301-47D0-AEC4-C37EA4CDCA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C9A0-B702-46B1-B4AB-D455355E6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5.xml"/><Relationship Id="rId12" Type="http://schemas.openxmlformats.org/officeDocument/2006/relationships/slide" Target="slide15.xml"/><Relationship Id="rId13" Type="http://schemas.openxmlformats.org/officeDocument/2006/relationships/slide" Target="slide17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9.xml"/><Relationship Id="rId17" Type="http://schemas.openxmlformats.org/officeDocument/2006/relationships/slide" Target="slide21.xml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slide" Target="slide23.xml"/><Relationship Id="rId21" Type="http://schemas.openxmlformats.org/officeDocument/2006/relationships/slide" Target="slide25.xml"/><Relationship Id="rId22" Type="http://schemas.openxmlformats.org/officeDocument/2006/relationships/slide" Target="slide25.xml"/><Relationship Id="rId23" Type="http://schemas.openxmlformats.org/officeDocument/2006/relationships/slide" Target="slide27.xml"/><Relationship Id="rId24" Type="http://schemas.openxmlformats.org/officeDocument/2006/relationships/slide" Target="slide27.xml"/><Relationship Id="rId25" Type="http://schemas.openxmlformats.org/officeDocument/2006/relationships/slide" Target="slide29.xml"/><Relationship Id="rId26" Type="http://schemas.openxmlformats.org/officeDocument/2006/relationships/slide" Target="slide29.xml"/><Relationship Id="rId27" Type="http://schemas.openxmlformats.org/officeDocument/2006/relationships/slide" Target="slide31.xml"/><Relationship Id="rId28" Type="http://schemas.openxmlformats.org/officeDocument/2006/relationships/slide" Target="slide31.xml"/><Relationship Id="rId29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11"/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12"/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ynom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mili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aluating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f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219320" y="3276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1447920" y="1219320"/>
            <a:ext cx="6245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1219320" y="2743200"/>
            <a:ext cx="685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a variable in the denomin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0" y="1143000"/>
            <a:ext cx="914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Based on its number of terms, the polynom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is called thi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1676520" y="3011400"/>
          <a:ext cx="551808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11400"/>
                    <a:ext cx="551808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3430800" y="2819520"/>
            <a:ext cx="24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I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4616280" y="2895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533520" y="16002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066680" y="2971800"/>
          <a:ext cx="7086600" cy="11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762120" y="5335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6" name=""/>
          <p:cNvGraphicFramePr/>
          <p:nvPr/>
        </p:nvGraphicFramePr>
        <p:xfrm>
          <a:off x="2990880" y="2743200"/>
          <a:ext cx="2800440" cy="10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0880" y="2743200"/>
                    <a:ext cx="280044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762120" y="129528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936800" y="3048120"/>
          <a:ext cx="5226120" cy="90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6800" y="3048120"/>
                    <a:ext cx="5226120" cy="90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295800" y="2971800"/>
          <a:ext cx="2419200" cy="85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5800" y="2971800"/>
                    <a:ext cx="2419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600200" y="17524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76320" y="2971800"/>
          <a:ext cx="8991360" cy="109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971800"/>
                    <a:ext cx="8991360" cy="10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2209680" y="2743200"/>
          <a:ext cx="464832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743200"/>
                    <a:ext cx="464832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0" y="2057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600200" y="3124080"/>
          <a:ext cx="594360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594360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4"/>
          <p:cNvSpPr/>
          <p:nvPr/>
        </p:nvSpPr>
        <p:spPr>
          <a:xfrm>
            <a:off x="0" y="10666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THIS…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IS…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e6e6"/>
                </a:solidFill>
                <a:latin typeface="Jokerman"/>
              </a:rPr>
              <a:t>JEOPARDY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TV Game Show Themes - 02 - Jeopardy!.mp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560"/>
                            </p:stCondLst>
                            <p:childTnLst>
                              <p:par>
                                <p:cTn id="29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2479"/>
                            </p:stCondLst>
                            <p:childTnLst>
                              <p:par>
                                <p:cTn id="35" nodeType="after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6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9120"/>
                            </p:stCondLst>
                            <p:childTnLst>
                              <p:par>
                                <p:cTn id="4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3120"/>
                            </p:stCondLst>
                            <p:childTnLst>
                              <p:par>
                                <p:cTn id="48" nodeType="after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4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1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4" presetSubtype="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20000004768372">
                                      <p:cBhvr additive="repl">
                                        <p:cTn id="5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5120"/>
                            </p:stCondLst>
                            <p:childTnLst>
                              <p:par>
                                <p:cTn id="55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57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58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74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75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76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6120"/>
                            </p:stCondLst>
                            <p:childTnLst>
                              <p:par>
                                <p:cTn id="8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6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8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8120"/>
                            </p:stCondLst>
                            <p:childTnLst>
                              <p:par>
                                <p:cTn id="90" nodeType="after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92" dur="2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2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01" dur="2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2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2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9" dur="2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animClr clrSpc="rgb">
                                      <p:cBhvr>
                                        <p:cTn id="110" dur="2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2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3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4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5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120"/>
                            </p:stCondLst>
                            <p:childTnLst>
                              <p:par>
                                <p:cTn id="118" nodeType="after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1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3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2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3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3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3720"/>
                            </p:stCondLst>
                            <p:childTnLst>
                              <p:par>
                                <p:cTn id="134" nodeType="after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3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4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4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4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5720"/>
                            </p:stCondLst>
                            <p:childTnLst>
                              <p:par>
                                <p:cTn id="156" nodeType="after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7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9320"/>
                            </p:stCondLst>
                            <p:childTnLst>
                              <p:par>
                                <p:cTn id="175" nodeType="after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8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2920"/>
                            </p:stCondLst>
                            <p:childTnLst>
                              <p:par>
                                <p:cTn id="194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0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1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6520"/>
                            </p:stCondLst>
                            <p:childTnLst>
                              <p:par>
                                <p:cTn id="213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2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8320"/>
                            </p:stCondLst>
                            <p:childTnLst>
                              <p:par>
                                <p:cTn id="232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2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3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4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1920"/>
                            </p:stCondLst>
                            <p:childTnLst>
                              <p:par>
                                <p:cTn id="251" nodeType="after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7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34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9120"/>
                            </p:stCondLst>
                            <p:childTnLst>
                              <p:par>
                                <p:cTn id="270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71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73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0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82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89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00"/>
                                      </p:to>
                                    </p:animClr>
                                    <p:set>
                                      <p:cBhvr>
                                        <p:cTn id="291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80120"/>
                            </p:stCondLst>
                            <p:childTnLst>
                              <p:par>
                                <p:cTn id="29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99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2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05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212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4120"/>
                            </p:stCondLst>
                            <p:childTnLst>
                              <p:par>
                                <p:cTn id="31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19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1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3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4120"/>
                            </p:stCondLst>
                            <p:childTnLst>
                              <p:par>
                                <p:cTn id="325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6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8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0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120"/>
                            </p:stCondLst>
                            <p:childTnLst>
                              <p:par>
                                <p:cTn id="332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5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4120"/>
                            </p:stCondLst>
                            <p:childTnLst>
                              <p:par>
                                <p:cTn id="33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0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2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6120"/>
                            </p:stCondLst>
                            <p:childTnLst>
                              <p:par>
                                <p:cTn id="346" nodeType="after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65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366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367" dur="1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7120"/>
                            </p:stCondLst>
                            <p:childTnLst>
                              <p:par>
                                <p:cTn id="374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5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79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8120"/>
                            </p:stCondLst>
                            <p:childTnLst>
                              <p:par>
                                <p:cTn id="38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2" dur="1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4" dur="1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6" dur="1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10120"/>
                            </p:stCondLst>
                            <p:childTnLst>
                              <p:par>
                                <p:cTn id="38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8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0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emph" presetID="8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14120"/>
                            </p:stCondLst>
                            <p:childTnLst>
                              <p:par>
                                <p:cTn id="395" nodeType="after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6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398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4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8933 0.046 -0.16667 0.113 -0.172 C 0.177 -0.17867 0.237 -0.11867 0.241 -0.032 C 0.246 0.048 0.204 0.12267 0.144 0.128 C 0.089 0.132 0.037 0.08267 0.033 0.008 C 0.029 -0.06 0.064 -0.124 0.115 -0.12933 C 0.162 -0.13333 0.206 -0.092 0.209 -0.02933 C 0.212 0.02667 0.184 0.08133 0.142 0.084 C 0.104 0.088 0.068 0.056 0.065 0.00533 C 0.063 -0.04 0.084 -0.084 0.117 -0.08667 C 0.146 -0.08933 0.175 -0.06533 0.177 -0.02667 C 0.179 0.00667 0.164 0.03867 0.14 0.04133 C 0.12 0.044 0.099 0.02933 0.098 0.00267 C 0.096 -0.01867 0.104 -0.04133 0.119 -0.044 C 0.131 -0.044 0.143 -0.03867 0.145 -0.024 C 0.146 -0.01467 0.144 -0.00533 0.138 -0.00133 C 0.135 0 0.133 0 0.13 -0.00133 E">
                                      <p:cBhvr>
                                        <p:cTn id="400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16120"/>
                            </p:stCondLst>
                            <p:childTnLst>
                              <p:par>
                                <p:cTn id="402" nodeType="after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5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path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407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18120"/>
                            </p:stCondLst>
                            <p:childTnLst>
                              <p:par>
                                <p:cTn id="4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1720"/>
                            </p:stCondLst>
                            <p:childTnLst>
                              <p:par>
                                <p:cTn id="42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3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25320"/>
                            </p:stCondLst>
                            <p:childTnLst>
                              <p:par>
                                <p:cTn id="44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8120"/>
                            </p:stCondLst>
                            <p:childTnLst>
                              <p:par>
                                <p:cTn id="46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31720"/>
                            </p:stCondLst>
                            <p:childTnLst>
                              <p:par>
                                <p:cTn id="482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3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5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87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34720"/>
                            </p:stCondLst>
                            <p:childTnLst>
                              <p:par>
                                <p:cTn id="489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0" dur="5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2" dur="5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21600000">
                                      <p:cBhvr>
                                        <p:cTn id="494" dur="5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39720"/>
                            </p:stCondLst>
                            <p:childTnLst>
                              <p:par>
                                <p:cTn id="496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7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499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43200000">
                                      <p:cBhvr>
                                        <p:cTn id="501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42720"/>
                            </p:stCondLst>
                            <p:childTnLst>
                              <p:par>
                                <p:cTn id="503" nodeType="after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4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5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6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7" nodeType="withEffect" fill="hold" presetClass="path" presetID="4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-0.004 -0.01067 -0.018 -0.02133 -0.023 -0.02133 C -0.054 -0.02133 -0.086 0.14534 -0.086 0.312 C -0.086 0.228 -0.102 0.14533 -0.117 0.14533 C -0.133 0.14533 -0.148 0.22933 -0.148 0.312 C -0.148 0.27067 -0.156 0.228 -0.164 0.228 C -0.172 0.228 -0.18 0.26933 -0.18 0.312 C -0.18 0.29067 -0.184 0.27067 -0.188 0.27067 C -0.192 0.27067 -0.196 0.292 -0.196 0.312 C -0.196 0.30133 -0.198 0.29067 -0.2 0.29067 C -0.201 0.29067 -0.204 0.30134 -0.204 0.312 C -0.204 0.30667 -0.205 0.30133 -0.206 0.30133 C -0.206 0.3 -0.208 0.30666 -0.208 0.312 C -0.208 0.30933 -0.208 0.30667 -0.209 0.30667 C -0.209 0.308 -0.21 0.30934 -0.21 0.312 C -0.21 0.31067 -0.21 0.30933 -0.21 0.308 C -0.211 0.308 -0.211 0.30933 -0.211 0.31067 C -0.212 0.31067 -0.212 0.30934 -0.212 0.308 C -0.213 0.308 -0.213 0.30933 -0.213 0.31067 E">
                                      <p:cBhvr>
                                        <p:cTn id="508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45720"/>
                            </p:stCondLst>
                            <p:childTnLst>
                              <p:par>
                                <p:cTn id="510" nodeType="after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1" dur="3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2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3" dur="3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04 -0.01067 0.018 -0.02133 0.023 -0.02133 C 0.054 -0.02133 0.086 0.14534 0.086 0.312 C 0.086 0.228 0.102 0.14533 0.117 0.14533 C 0.133 0.14533 0.148 0.22933 0.148 0.312 C 0.148 0.27067 0.156 0.228 0.164 0.228 C 0.172 0.228 0.18 0.26933 0.18 0.312 C 0.18 0.29067 0.184 0.27067 0.188 0.27067 C 0.192 0.27067 0.196 0.292 0.196 0.312 C 0.196 0.30133 0.198 0.29067 0.2 0.29067 C 0.201 0.29067 0.204 0.30134 0.204 0.312 C 0.204 0.30667 0.205 0.30133 0.206 0.30133 C 0.206 0.30266 0.208 0.30666 0.208 0.312 C 0.208 0.30933 0.208 0.30667 0.209 0.30667 C 0.209 0.308 0.21 0.30934 0.21 0.312 C 0.21 0.31067 0.21 0.30933 0.21 0.308 C 0.211 0.308 0.211 0.30933 0.211 0.31067 C 0.212 0.31067 0.212 0.30934 0.212 0.308 C 0.213 0.308 0.213 0.30933 0.213 0.31067 E">
                                      <p:cBhvr>
                                        <p:cTn id="515" dur="3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48720"/>
                            </p:stCondLst>
                            <p:childTnLst>
                              <p:par>
                                <p:cTn id="517" nodeType="after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18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9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0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1" nodeType="withEffect" fill="hold" presetClass="path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7 0 0.031 0.01867 0.031 0.04133 C 0.031 0.06533 0.017 0.084 0 0.084 C -0.017 0.084 -0.031 0.10267 -0.031 0.12533 C -0.031 0.148 -0.017 0.16667 0 0.16667 C 0.017 0.16667 0.031 0.18533 0.031 0.208 C 0.031 0.23067 0.017 0.24933 0 0.24933 C -0.017 0.24933 -0.031 0.268 -0.031 0.292 C -0.031 0.31467 -0.017 0.33333 0 0.33333 C 0.017 0.33333 0.031 0.31467 0.031 0.292 C 0.031 0.268 0.017 0.24933 0 0.24933 C -0.017 0.24933 -0.031 0.23067 -0.031 0.208 C -0.031 0.18533 -0.017 0.16667 0 0.16667 C 0.017 0.16667 0.031 0.148 0.031 0.12533 C 0.031 0.10267 0.017 0.084 0 0.084 C -0.017 0.084 -0.031 0.06533 -0.031 0.04133 C -0.031 0.01867 -0.017 0 0 0 Z">
                                      <p:cBhvr>
                                        <p:cTn id="522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720"/>
                            </p:stCondLst>
                            <p:childTnLst>
                              <p:par>
                                <p:cTn id="524" nodeType="after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5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6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7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8" nodeType="withEffect" fill="hold" presetClass="pat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15 0.032 0.037 0.06533 0.055 0.07867 C 0.082 0.1 0.108 0.108 0.113 0.09733 C 0.117 0.08667 0.099 0.06 0.072 0.03867 C 0.054 0.02533 0.021 0.016 -0.008 0.01467 C -0.036 0.016 -0.07 0.02533 -0.088 0.03867 C -0.115 0.06 -0.133 0.08667 -0.128 0.09733 C -0.123 0.108 -0.097 0.1 -0.071 0.07867 C -0.053 0.06533 -0.03 0.032 -0.016 0 C -0.001 -0.03333 0.009 -0.07733 0.009 -0.10533 C 0.009 -0.148 0.002 -0.18133 -0.008 -0.18133 C -0.017 -0.18133 -0.025 -0.148 -0.025 -0.10533 C -0.025 -0.07733 -0.014 -0.03333 0 0 Z">
                                      <p:cBhvr>
                                        <p:cTn id="529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2720"/>
                            </p:stCondLst>
                            <p:childTnLst>
                              <p:par>
                                <p:cTn id="531" nodeType="after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2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3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4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5" nodeType="withEffect" fill="hold" presetClass="path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17 -0.08667 C 0.034 -0.15733 0.061 -0.18533 0.1 -0.18533 C 0.12 -0.18533 0.138 -0.17467 0.152 -0.15733 C 0.162 -0.14533 0.174 -0.13867 0.187 -0.13867 C 0.212 -0.13867 0.233 -0.16267 0.241 -0.19733 L 0.25 -0.23867 L 0.232 -0.15067 C 0.215 -0.08133 0.188 -0.05333 0.15 -0.05333 C 0.13 -0.05333 0.111 -0.064 0.096 -0.08267 C 0.087 -0.09333 0.075 -0.1 0.063 -0.1 C 0.038 -0.1 0.017 -0.076 0.009 -0.04133 L 0 0 Z">
                                      <p:cBhvr>
                                        <p:cTn id="536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4720"/>
                            </p:stCondLst>
                            <p:childTnLst>
                              <p:par>
                                <p:cTn id="538" nodeType="after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39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1" dur="20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2" nodeType="withEffect" fill="hold" presetClass="path" presetID="2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C 0.023 0.00133 0.042 0.012 0.052 0.028 L 0.075 0.06533 C 0.08 0.07333 0.088 0.07733 0.098 0.07733 C 0.112 0.07733 0.124 0.06667 0.125 0.05067 C 0.124 0.03733 0.112 0.02533 0.098 0.02533 C 0.088 0.02533 0.08 0.03067 0.075 0.03733 L 0.052 0.07467 C 0.042 0.09067 0.023 0.10133 0 0.10267 C -0.023 0.10133 -0.042 0.09067 -0.052 0.07467 L -0.075 0.03733 C -0.08 0.03067 -0.088 0.02533 -0.098 0.02533 C -0.112 0.02533 -0.124 0.03733 -0.125 0.05067 C -0.124 0.06667 -0.112 0.07733 -0.098 0.07733 C -0.088 0.07733 -0.08 0.07333 -0.075 0.06533 L -0.052 0.028 C -0.042 0.012 -0.023 0.00133 0 0 Z">
                                      <p:cBhvr>
                                        <p:cTn id="543" dur="20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19944" fill="hold"/>
                                        <p:tgtEl>
                                          <p:spTgt spid="5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914400" y="2819520"/>
          <a:ext cx="71629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71629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1447920" y="31240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0" y="2514600"/>
            <a:ext cx="967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92440" y="1751760"/>
            <a:ext cx="196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if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380880" y="2666880"/>
          <a:ext cx="815364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666880"/>
                    <a:ext cx="815364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240" y="24638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743040" y="2819520"/>
          <a:ext cx="741024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2819520"/>
                    <a:ext cx="74102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1447920" y="25909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2057400" y="1600200"/>
            <a:ext cx="541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-2033640" y="2133720"/>
            <a:ext cx="13497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014480" y="21175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This function family has graphs that are (straight) line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762120" y="274320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inear fun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"/>
          <p:cNvSpPr/>
          <p:nvPr/>
        </p:nvSpPr>
        <p:spPr>
          <a:xfrm>
            <a:off x="762120" y="2362320"/>
            <a:ext cx="78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Quadratic functions have graphs that are this shape.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914400" y="297180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510080" y="8380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3524040" y="274320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bo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3"/>
          <p:cNvSpPr/>
          <p:nvPr/>
        </p:nvSpPr>
        <p:spPr>
          <a:xfrm>
            <a:off x="1447920" y="1981080"/>
            <a:ext cx="6476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equ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elongs in this function fami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2057400" y="2819520"/>
          <a:ext cx="4724280" cy="94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94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2590920" y="297180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1219320" y="1523880"/>
            <a:ext cx="6781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VIDEO C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ame  two function families that make the shape shown by Ms. Williams’ arm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1371600" y="1890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6e6"/>
                </a:solidFill>
                <a:latin typeface="Times New Roman"/>
              </a:rPr>
              <a:t>This is the name of a polynomial with 1 te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990720" y="2895480"/>
            <a:ext cx="758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ubic and Quin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380880" y="2438280"/>
            <a:ext cx="8382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 shape of this function family is made because it is impossible to divide by 0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1800" y="207540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1800" y="38469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1800" y="56185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2"/>
          <p:cNvSpPr/>
          <p:nvPr/>
        </p:nvSpPr>
        <p:spPr>
          <a:xfrm>
            <a:off x="1800" y="739044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2"/>
          <p:cNvSpPr/>
          <p:nvPr/>
        </p:nvSpPr>
        <p:spPr>
          <a:xfrm>
            <a:off x="447984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3"/>
          <p:cNvSpPr/>
          <p:nvPr/>
        </p:nvSpPr>
        <p:spPr>
          <a:xfrm>
            <a:off x="1800" y="207540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14"/>
          <p:cNvSpPr/>
          <p:nvPr/>
        </p:nvSpPr>
        <p:spPr>
          <a:xfrm>
            <a:off x="1800" y="384696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15"/>
          <p:cNvSpPr/>
          <p:nvPr/>
        </p:nvSpPr>
        <p:spPr>
          <a:xfrm>
            <a:off x="1800" y="56185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16"/>
          <p:cNvSpPr/>
          <p:nvPr/>
        </p:nvSpPr>
        <p:spPr>
          <a:xfrm>
            <a:off x="1800" y="739044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"/>
          <p:cNvSpPr/>
          <p:nvPr/>
        </p:nvSpPr>
        <p:spPr>
          <a:xfrm>
            <a:off x="5867280" y="2666880"/>
            <a:ext cx="762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"/>
          <p:cNvSpPr/>
          <p:nvPr/>
        </p:nvSpPr>
        <p:spPr>
          <a:xfrm>
            <a:off x="3505320" y="2881440"/>
            <a:ext cx="2895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nver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914400" y="1981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22440" y="2300400"/>
            <a:ext cx="77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se are the two tests used to determine whether something is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4635360" y="25146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3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838080" y="1676520"/>
            <a:ext cx="73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9600" y="2941560"/>
            <a:ext cx="8030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779120" y="2452680"/>
            <a:ext cx="52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pping Dia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Vertical Line Tes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1676520" y="2133720"/>
            <a:ext cx="6095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 see this in the vertical line test, you know the relation is NOT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3"/>
          <p:cNvSpPr/>
          <p:nvPr/>
        </p:nvSpPr>
        <p:spPr>
          <a:xfrm>
            <a:off x="1447920" y="2057400"/>
            <a:ext cx="6732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A vertical line hits 2 or more points on the graph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2"/>
          <p:cNvSpPr/>
          <p:nvPr/>
        </p:nvSpPr>
        <p:spPr>
          <a:xfrm>
            <a:off x="380880" y="1523880"/>
            <a:ext cx="847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ive the domain and range of the re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330120" y="3200400"/>
          <a:ext cx="858528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200400"/>
                    <a:ext cx="85852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9" name=""/>
          <p:cNvGraphicFramePr/>
          <p:nvPr/>
        </p:nvGraphicFramePr>
        <p:xfrm>
          <a:off x="1549440" y="2120760"/>
          <a:ext cx="597060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9440" y="2120760"/>
                    <a:ext cx="597060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2"/>
          <p:cNvSpPr/>
          <p:nvPr/>
        </p:nvSpPr>
        <p:spPr>
          <a:xfrm>
            <a:off x="1523880" y="1828800"/>
            <a:ext cx="6400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is is what you look for in a mapping diagram to determine whether or not something is a function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3054960" y="2895480"/>
            <a:ext cx="32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3"/>
          <p:cNvSpPr/>
          <p:nvPr/>
        </p:nvSpPr>
        <p:spPr>
          <a:xfrm>
            <a:off x="727920" y="1295280"/>
            <a:ext cx="798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*Arrows coming from the domai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 arrows from one number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arrow from each numb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209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62320" y="4419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2"/>
          <p:cNvSpPr/>
          <p:nvPr/>
        </p:nvSpPr>
        <p:spPr>
          <a:xfrm>
            <a:off x="830880" y="2590920"/>
            <a:ext cx="755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ive the definition of a func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3"/>
          <p:cNvSpPr/>
          <p:nvPr/>
        </p:nvSpPr>
        <p:spPr>
          <a:xfrm>
            <a:off x="1295280" y="2057400"/>
            <a:ext cx="73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relation where each element in the domain is paired with exactly one element in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2"/>
          <p:cNvSpPr/>
          <p:nvPr/>
        </p:nvSpPr>
        <p:spPr>
          <a:xfrm>
            <a:off x="1295280" y="1523880"/>
            <a:ext cx="6629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"/>
          <p:cNvSpPr/>
          <p:nvPr/>
        </p:nvSpPr>
        <p:spPr>
          <a:xfrm>
            <a:off x="1271520" y="2438280"/>
            <a:ext cx="6958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f you’re told to find f(5), what do you do with the number 5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609480" y="2514600"/>
            <a:ext cx="8001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 all the x’s in the function with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2"/>
          <p:cNvSpPr/>
          <p:nvPr/>
        </p:nvSpPr>
        <p:spPr>
          <a:xfrm>
            <a:off x="533520" y="2438280"/>
            <a:ext cx="7924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4"/>
          <p:cNvSpPr/>
          <p:nvPr/>
        </p:nvSpPr>
        <p:spPr>
          <a:xfrm>
            <a:off x="-685800" y="2057400"/>
            <a:ext cx="10201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ive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d f(-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5" name=""/>
          <p:cNvGraphicFramePr/>
          <p:nvPr/>
        </p:nvGraphicFramePr>
        <p:xfrm>
          <a:off x="1625760" y="2743200"/>
          <a:ext cx="561312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5760" y="2743200"/>
                    <a:ext cx="561312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769920" y="3138840"/>
            <a:ext cx="10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914400" y="1295280"/>
            <a:ext cx="7480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Gi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find f(2c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1600200" y="2666880"/>
          <a:ext cx="5943600" cy="11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666880"/>
                    <a:ext cx="594360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676520" y="2590920"/>
          <a:ext cx="579096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57909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1371600" y="175248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iv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nd f(g(x)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2895480" y="2666880"/>
          <a:ext cx="388620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88620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"/>
          <p:cNvSpPr/>
          <p:nvPr/>
        </p:nvSpPr>
        <p:spPr>
          <a:xfrm>
            <a:off x="8467560" y="58071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905120" y="3124080"/>
            <a:ext cx="54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2"/>
          <p:cNvSpPr/>
          <p:nvPr/>
        </p:nvSpPr>
        <p:spPr>
          <a:xfrm>
            <a:off x="1295280" y="1600200"/>
            <a:ext cx="6934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Based on its number of terms, the polynomial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6e6"/>
                </a:solidFill>
                <a:latin typeface="Times New Roman"/>
              </a:rPr>
              <a:t>is called thi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200400" y="3048120"/>
          <a:ext cx="3289320" cy="8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3048120"/>
                    <a:ext cx="328932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0" name=""/>
          <p:cNvGraphicFramePr/>
          <p:nvPr/>
        </p:nvGraphicFramePr>
        <p:xfrm>
          <a:off x="1828800" y="2743200"/>
          <a:ext cx="548640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7432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Text Box 2"/>
          <p:cNvSpPr/>
          <p:nvPr/>
        </p:nvSpPr>
        <p:spPr>
          <a:xfrm>
            <a:off x="1295280" y="990720"/>
            <a:ext cx="678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06560" y="266760"/>
            <a:ext cx="3289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Gi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find f(g(6)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4" name=""/>
          <p:cNvGraphicFramePr/>
          <p:nvPr/>
        </p:nvGraphicFramePr>
        <p:xfrm>
          <a:off x="2209680" y="2057400"/>
          <a:ext cx="5105520" cy="29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5105520" cy="29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AutoShape 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609480" y="2895480"/>
            <a:ext cx="815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1447920" y="274572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RInom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4265640" y="348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7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4176720" y="33210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676520" y="1676520"/>
            <a:ext cx="6086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The degree of the polynomi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6e6e6"/>
                </a:solidFill>
                <a:latin typeface="Times New Roman"/>
              </a:rPr>
              <a:t>is this nu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2743200" y="3166920"/>
          <a:ext cx="40384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166920"/>
                    <a:ext cx="40384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5"/>
          <p:cNvSpPr/>
          <p:nvPr/>
        </p:nvSpPr>
        <p:spPr>
          <a:xfrm>
            <a:off x="4246560" y="2895480"/>
            <a:ext cx="52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2f76"/>
            </a:gs>
            <a:gs pos="50000">
              <a:srgbClr val="3366ff"/>
            </a:gs>
            <a:gs pos="100000">
              <a:srgbClr val="18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477720" y="2362320"/>
            <a:ext cx="7142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2286000" y="2408400"/>
            <a:ext cx="4572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914400" y="30160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6e6e6"/>
                </a:solidFill>
                <a:latin typeface="Times New Roman"/>
              </a:rPr>
              <a:t>is NOT a polynomial because of this reas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583080" y="990720"/>
          <a:ext cx="167472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3080" y="990720"/>
                    <a:ext cx="167472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Eleanor M. Savko</dc:creator>
  <dc:description/>
  <dc:language>en-US</dc:language>
  <cp:lastModifiedBy>Lauren Williams</cp:lastModifiedBy>
  <dcterms:modified xsi:type="dcterms:W3CDTF">2010-09-27T23:10:54Z</dcterms:modified>
  <cp:revision>227</cp:revision>
  <dc:subject/>
  <dc:title>Blank Jeopardy</dc:title>
</cp:coreProperties>
</file>